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png" ContentType="image/png"/>
  <Override PartName="/ppt/media/image3.gif" ContentType="image/gif"/>
  <Override PartName="/ppt/media/image5.png" ContentType="image/png"/>
  <Override PartName="/ppt/media/applause.wav" ContentType="audio/x-wav"/>
  <Override PartName="/ppt/media/image10.png" ContentType="image/png"/>
  <Override PartName="/ppt/media/image8.png" ContentType="image/png"/>
  <Override PartName="/ppt/media/image14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7.png" ContentType="image/png"/>
  <Override PartName="/ppt/media/click.wav" ContentType="audio/x-wav"/>
  <Override PartName="/ppt/media/image23.png" ContentType="image/png"/>
  <Override PartName="/ppt/media/image12.jpeg" ContentType="image/jpeg"/>
  <Override PartName="/ppt/media/image22.png" ContentType="image/png"/>
  <Override PartName="/ppt/media/image11.png" ContentType="image/png"/>
  <Override PartName="/ppt/media/image19.jpeg" ContentType="image/jpeg"/>
  <Override PartName="/ppt/media/voltage.wav" ContentType="audio/x-wav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DB-EA9D-4FE5-9CE7-FA1676C3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130-2606-4142-93FC-29966A90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51B6-C8FE-45F2-8931-ED13708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7718A-008D-45DB-A448-1498EBD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7DF6B-A3D9-4A12-8A63-8B366058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12C39-683D-4C16-B26D-FC0F25A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10CBD-4B77-4B60-9CC5-DE22AA92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C449-BEFB-4B37-AD55-5B4B71E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4535E-6F5D-4374-A79A-2C895DE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EC1B7-22C8-4173-BD89-A50AF3C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C706-86A2-4B13-8E26-159F543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F2B9-7EF5-4255-A8E7-46946A13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F4A-D4DF-4598-A2F5-21D11308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B77AE-D108-4729-AE24-AB9747A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4021F-0185-4497-96F1-23A7A60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E1DEA-0741-4224-B110-947780EC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BC46E-6CCC-4FF0-8DB3-FEEC03B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669FB-8251-4036-84F0-35BE612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DA315-9734-479C-A04C-1508ED2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F8010-1722-4A3D-930C-211646F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30CA9-6839-4952-8CEF-97C36830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0BDE8-005E-4185-AD4A-35727C22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6B5EB-B7B6-45E2-9CED-501D0C02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A86-56EF-4D2B-A006-BC0D707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EECE9-3538-43AD-B8DB-918D5D5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75B8-B06F-41C4-988E-4F9D5A70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08A39-7BA2-4AD5-8A02-F4F100D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392E-586D-4E4C-B0C2-B7D223B7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97544-EEEB-467A-ACDD-F0A91FD3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CD2B8-CAF8-478B-9E3D-3C088DA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0609C-03C6-433A-8A76-5199BCF2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D5AD9-D7C2-4096-82C1-1F7F8DB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6B0E0-E4D8-4628-8532-A0096E3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8D62-3450-427C-B281-0F70A04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A318-F74E-481C-A9BA-332FB152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B9E4-A59F-45D3-A08F-6330C15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BC63-E513-4BCE-A77B-1AD62160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74D28-9F48-43A2-AE16-7C1E9297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CD06-3DCF-46FE-8F7C-D0A363AE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0C5E-67F7-4B80-9708-1EE3BC0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CF50-9A6F-4609-82D7-CC7D6E2B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10836-086E-475B-BA3A-C860EE76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F5E75-8EFD-484D-AD1B-1B9819E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D528A-BDE6-4788-9094-10E7294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8410E-8428-477C-9E04-D8CC13B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048A-7644-4886-96A3-44D3FD99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AE40C-76C7-4C6E-907C-AE963D5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11056-AD5D-4935-ACE6-E700737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52556-DD77-4F6C-9B50-797244D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B60B8-8BBB-4B4E-9B36-7DE5CE5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EC66F-F09C-4533-82F3-1B7F08CA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0920-563A-4F76-8681-1561221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D30-2109-42F1-89A8-9FAF057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7BC4-C763-4636-A0D3-40741F8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E182-8F23-4E09-A2A7-F462B8BA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3F6-A66A-4D65-A35A-E230E5F8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401-A62D-44DC-AB7F-0EC20E2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B9A-4EC7-4CBB-B56D-BF9CD63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5A2-6A09-4A54-857E-A361571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153-165D-4E1D-B477-7C1E052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B775-BB60-4B26-8038-BC29E79D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B412-9403-4AD9-B186-D9EF492F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2E35-8F69-435A-859F-9AB56923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EF02-9DBB-436E-A6C2-4BF1540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D3D4-2B05-4849-8DDB-C9E1746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9FA1-A128-47A1-A3F3-1DFDD09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0933-080C-4429-B2F2-841F0AE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B1F-2749-4EBC-B1FA-D78CF51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EC4E-1614-4969-9B90-97ACE24E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1D77-19CF-4391-AC44-6339907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DE7C-52F5-44B4-9134-BF3B4F8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FB4B-50E2-4099-9949-AA13328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E11E-9E42-4B60-82C6-1503BEFF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FC16-BE4E-4864-AF96-34A558A8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B810-DA20-4AD6-8E6F-C9A6DC18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CBC7-76E9-4F10-984E-ACC6A33B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A395-F4F0-40CB-832E-E7426F3B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80F8-445B-4077-84D9-004D75B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470-8389-4A6C-B642-74590D65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2C83-A4D3-4808-A980-B0F18AC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2E12-4253-4113-96AE-A81AD37E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C09F-58A6-4389-AAC2-41509BE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EA8A-9EEA-41F9-B7B9-2B6222C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0CC5-EED6-4254-9EE9-7F7A571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96E7-7ABA-4C7D-B45E-8AE1FC1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6137-9F9C-4F31-BE67-2807117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4CE3-E1D7-4A4B-A386-B8B0D879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0225-EB18-4874-BD9E-8C88450D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2106-0C67-481A-BDC8-D6FE16D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F42-D01C-4B27-B855-529919F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8515-EFDE-4562-B119-D8CB9A4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2D0C-58DF-4438-A0CF-48E7946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B18F-389D-4D22-B3E2-A02C18B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FB25-60DB-40E2-AEE4-2BF18C43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349E-CABE-4655-901B-6AECD37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98B1-E766-4149-A8CC-D6B524E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1B68A-AED1-46FF-9757-7E97A75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B957-B97A-40D7-BB20-443D4ED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1E81-D64B-4B71-8BF8-D1B33E02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226D-C681-4314-AA9A-E4F0B01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C79-D353-49F1-B8AE-DE1D3F1D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A5E1-5C2A-442C-BDA8-22C38F12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95C4-C35A-4FFA-BB04-EB1E8DD1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BA19-C742-4E6D-9211-78E6FF39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EBB3-6AC2-47FB-A947-7E16AB4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2FB02-B9BC-43AD-9816-6931981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5CE8-E572-4075-9FD2-31D590E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DDDCB-5E1D-42BE-8C30-546F43D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1D7B-2B81-4E37-A730-2ADBEAF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17A0-D4C2-4482-8804-73A38ED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BB13-F473-4686-B0BB-8F58C3F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680-ADE0-4383-A60E-799E2BF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D812-6FA2-41E1-B7C5-22A4340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8518-B2A8-42B3-9F16-10BB80FD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611A-0D08-4EAD-BE56-5B179383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63C53-4FFB-439C-A29C-297B4F7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8F3B-A4D5-44F1-A67D-234A5BFC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B015-1E87-4BCE-A5AD-E324CD1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565E-00EC-4D31-91D9-14CF05F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3F41-6EBA-45FD-AC85-45A50606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B48E-9971-4B04-B946-090B2FA7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63E4-81BD-43BA-BB14-A45E1D50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8FF-8B43-43FF-B5FC-E24BB6B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E2F7A-E3AF-4769-B73C-CF06796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5B4F8-0204-4AE1-AD87-D0DCB95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9616-0E07-403E-9AA5-3D2E7E29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9A40-45E0-4FF2-B60F-586A249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65CE-9147-4665-BC65-2F0A175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AE85-B9EF-49FC-AA73-26229921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F70A-68E8-45DA-8807-AA75135A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ACF1-9B7D-4556-AE45-4D7CDE91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A4D7-B921-4385-99C6-B12FF6AB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424D-ECCA-456E-8E71-ADCE5BFF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12D-5C6C-4B00-8CB8-3AD5E27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FCB7-D625-48CF-A4EB-D3CB24C1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DBDF-0A18-49D7-A634-BA82493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CA36A-605E-4374-A4E0-0536902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CD77-1496-4497-9CF2-334A20E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F2F0-58ED-4FBA-870D-D0F22996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D6F74-A70C-4342-BABA-89A41BF8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8A3C3-39EF-42BA-9666-FB5D434D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694AA-6A22-472D-AE82-05FF9E1B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97BA-2EDA-49D7-B0F8-B4AD7D31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C2547-B127-46D6-AF0D-6017301F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529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5529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5529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5530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5530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5530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5530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A9F-5E32-4752-A875-D41F8B36B1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1C95-DB78-47E9-8050-3CA110782A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D74-C116-4006-9FE5-92DA0AA842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FF2F-CC32-4D9E-B380-03AF9405C1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5632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5632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563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5632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5632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563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5632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464-F615-4BA1-960A-E3D2647254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4976-9798-41C8-8C13-1D1BB558B9D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E7DA-87F4-436D-B263-8B066FD7205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9D0-ACC4-4478-854C-A06608A960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85A-0F58-4581-9D58-AE28C12345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723-3635-43D5-A208-32B75A8A76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B345-ED44-4470-922E-5EAB9F52BE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D92-86E3-4663-B064-C4DD020CEB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20482"/>
          <p:cNvSpPr/>
          <p:nvPr/>
        </p:nvSpPr>
        <p:spPr>
          <a:xfrm>
            <a:off x="2484360" y="1700280"/>
            <a:ext cx="511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身穿黑袍子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长个丑样子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懂得爱妈妈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是个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好孩子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(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猜一小动物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)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云形标注 20483"/>
          <p:cNvSpPr/>
          <p:nvPr/>
        </p:nvSpPr>
        <p:spPr>
          <a:xfrm>
            <a:off x="0" y="0"/>
            <a:ext cx="3780000" cy="1844640"/>
          </a:xfrm>
          <a:prstGeom prst="cloudCallout">
            <a:avLst>
              <a:gd name="adj1" fmla="val -44162"/>
              <a:gd name="adj2" fmla="val 25819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文本框 20484"/>
          <p:cNvSpPr/>
          <p:nvPr/>
        </p:nvSpPr>
        <p:spPr>
          <a:xfrm>
            <a:off x="684360" y="33336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3366ff"/>
                </a:solidFill>
                <a:uFillTx/>
                <a:latin typeface="Arial"/>
                <a:ea typeface="楷体_GB2312"/>
              </a:rPr>
              <a:t>猜谜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文本框 20485"/>
          <p:cNvSpPr/>
          <p:nvPr/>
        </p:nvSpPr>
        <p:spPr>
          <a:xfrm>
            <a:off x="6516720" y="4076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乌鸦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20486" descr="2005104202017"/>
          <p:cNvPicPr/>
          <p:nvPr/>
        </p:nvPicPr>
        <p:blipFill>
          <a:blip r:embed="rId2"/>
          <a:stretch/>
        </p:blipFill>
        <p:spPr>
          <a:xfrm>
            <a:off x="539640" y="263700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8193"/>
          <p:cNvSpPr/>
          <p:nvPr/>
        </p:nvSpPr>
        <p:spPr>
          <a:xfrm>
            <a:off x="324000" y="11487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乌鸦看见旁边有许多小石子，想出了一个办法 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1" name="图片 8194" descr=""/>
          <p:cNvPicPr/>
          <p:nvPr/>
        </p:nvPicPr>
        <p:blipFill>
          <a:blip r:embed="rId1"/>
          <a:stretch/>
        </p:blipFill>
        <p:spPr>
          <a:xfrm>
            <a:off x="5511960" y="2349360"/>
            <a:ext cx="3598560" cy="344016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8195"/>
          <p:cNvSpPr/>
          <p:nvPr/>
        </p:nvSpPr>
        <p:spPr>
          <a:xfrm>
            <a:off x="-249120" y="3682080"/>
            <a:ext cx="76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思考：你们知道聪明的小乌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想出了一个什么办法吗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9217"/>
          <p:cNvSpPr/>
          <p:nvPr/>
        </p:nvSpPr>
        <p:spPr>
          <a:xfrm>
            <a:off x="0" y="333360"/>
            <a:ext cx="90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乌鸦把小石子一颗一颗地衔起来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,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放进瓶子里。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文本框 9218"/>
          <p:cNvSpPr/>
          <p:nvPr/>
        </p:nvSpPr>
        <p:spPr>
          <a:xfrm>
            <a:off x="258840" y="54698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想一想：乌鸦把小石子放进瓶里，瓶子里的水会怎么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宋体"/>
              </a:rPr>
              <a:t>照样子，说一说</a:t>
            </a:r>
            <a:r>
              <a:rPr b="1" lang="en-US" sz="63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乌鸦把小石子放到瓶子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 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放到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 </a:t>
            </a:r>
            <a:r>
              <a:rPr b="0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﹍﹍﹍﹍﹍﹍</a:t>
            </a: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0241"/>
          <p:cNvSpPr/>
          <p:nvPr/>
        </p:nvSpPr>
        <p:spPr>
          <a:xfrm>
            <a:off x="-27000" y="260280"/>
            <a:ext cx="899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瓶子里的水渐渐升高，乌鸦就喝着水了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10242"/>
          <p:cNvSpPr/>
          <p:nvPr/>
        </p:nvSpPr>
        <p:spPr>
          <a:xfrm>
            <a:off x="1042920" y="5084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0243"/>
          <p:cNvSpPr/>
          <p:nvPr/>
        </p:nvSpPr>
        <p:spPr>
          <a:xfrm>
            <a:off x="34920" y="550332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思考：乌鸦喝着水了，它的心情会怎么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13720"/>
          </a:xfrm>
          <a:prstGeom prst="rect">
            <a:avLst/>
          </a:prstGeom>
          <a:ln w="0">
            <a:noFill/>
          </a:ln>
        </p:spPr>
      </p:pic>
      <p:sp>
        <p:nvSpPr>
          <p:cNvPr id="573" name="矩形 11268"/>
          <p:cNvSpPr txBox="1"/>
          <p:nvPr/>
        </p:nvSpPr>
        <p:spPr>
          <a:xfrm>
            <a:off x="468360" y="404640"/>
            <a:ext cx="41148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黑体"/>
              </a:rPr>
              <a:t>动动手动动脑</a:t>
            </a:r>
            <a:endParaRPr b="0" i="1" lang="en-US" sz="5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黑体"/>
              <a:ea typeface="黑体"/>
            </a:endParaRPr>
          </a:p>
        </p:txBody>
      </p:sp>
      <p:sp>
        <p:nvSpPr>
          <p:cNvPr id="574" name="文本框 11269"/>
          <p:cNvSpPr/>
          <p:nvPr/>
        </p:nvSpPr>
        <p:spPr>
          <a:xfrm>
            <a:off x="-712800" y="2378160"/>
            <a:ext cx="84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注意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水是怎样升高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11270"/>
          <p:cNvSpPr/>
          <p:nvPr/>
        </p:nvSpPr>
        <p:spPr>
          <a:xfrm>
            <a:off x="468360" y="41680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练一练：用“渐渐”说一句话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11271"/>
          <p:cNvSpPr/>
          <p:nvPr/>
        </p:nvSpPr>
        <p:spPr>
          <a:xfrm>
            <a:off x="684360" y="30798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答案：渐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文本框 49153"/>
          <p:cNvSpPr/>
          <p:nvPr/>
        </p:nvSpPr>
        <p:spPr>
          <a:xfrm flipV="1">
            <a:off x="250920" y="3315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我  会  比 较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49154"/>
          <p:cNvSpPr/>
          <p:nvPr/>
        </p:nvSpPr>
        <p:spPr>
          <a:xfrm>
            <a:off x="380880" y="3962520"/>
            <a:ext cx="822960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瓶子里的水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很快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升高，乌鸦就喝到水了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文本框 49155"/>
          <p:cNvSpPr/>
          <p:nvPr/>
        </p:nvSpPr>
        <p:spPr>
          <a:xfrm>
            <a:off x="2484360" y="522936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49156"/>
          <p:cNvSpPr/>
          <p:nvPr/>
        </p:nvSpPr>
        <p:spPr>
          <a:xfrm>
            <a:off x="380880" y="1143000"/>
            <a:ext cx="8064720" cy="192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瓶子里的水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渐渐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升高，乌鸦就喝到水了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82" name="云形标注 50178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50179"/>
          <p:cNvSpPr/>
          <p:nvPr/>
        </p:nvSpPr>
        <p:spPr>
          <a:xfrm>
            <a:off x="1097280" y="47628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读读说说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黑体"/>
              </a:rPr>
              <a:t>: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50180"/>
          <p:cNvSpPr/>
          <p:nvPr/>
        </p:nvSpPr>
        <p:spPr>
          <a:xfrm>
            <a:off x="2009520" y="1700280"/>
            <a:ext cx="46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瓶子里的水</a:t>
            </a:r>
            <a:r>
              <a:rPr b="0" i="1" lang="en-US" sz="4000" spc="-1" strike="noStrike" u="sng">
                <a:solidFill>
                  <a:srgbClr val="d9d8ec"/>
                </a:solidFill>
                <a:uFillTx/>
                <a:latin typeface="黑体"/>
              </a:rPr>
              <a:t>(     )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升高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文本框 50181"/>
          <p:cNvSpPr/>
          <p:nvPr/>
        </p:nvSpPr>
        <p:spPr>
          <a:xfrm>
            <a:off x="2502360" y="4508640"/>
            <a:ext cx="32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渐渐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50182"/>
          <p:cNvSpPr/>
          <p:nvPr/>
        </p:nvSpPr>
        <p:spPr>
          <a:xfrm>
            <a:off x="1403280" y="5516640"/>
            <a:ext cx="67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渐渐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50183"/>
          <p:cNvSpPr/>
          <p:nvPr/>
        </p:nvSpPr>
        <p:spPr>
          <a:xfrm>
            <a:off x="2083680" y="450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文本框 50184"/>
          <p:cNvSpPr/>
          <p:nvPr/>
        </p:nvSpPr>
        <p:spPr>
          <a:xfrm>
            <a:off x="428472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亮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文本框 50185"/>
          <p:cNvSpPr/>
          <p:nvPr/>
        </p:nvSpPr>
        <p:spPr>
          <a:xfrm>
            <a:off x="1692360" y="551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小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50186"/>
          <p:cNvSpPr/>
          <p:nvPr/>
        </p:nvSpPr>
        <p:spPr>
          <a:xfrm>
            <a:off x="4284720" y="551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长高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文本框 50187"/>
          <p:cNvSpPr/>
          <p:nvPr/>
        </p:nvSpPr>
        <p:spPr>
          <a:xfrm>
            <a:off x="4405320" y="234936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渐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2" name="图片 50188" descr="乌鸦"/>
          <p:cNvPicPr/>
          <p:nvPr/>
        </p:nvPicPr>
        <p:blipFill>
          <a:blip r:embed="rId2"/>
          <a:stretch/>
        </p:blipFill>
        <p:spPr>
          <a:xfrm rot="445200">
            <a:off x="5866920" y="2997360"/>
            <a:ext cx="4319640" cy="45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组合 51201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594" name="图片 51202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51203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51204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图片 51205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8" name="图片 51206" descr="边框1"/>
          <p:cNvPicPr/>
          <p:nvPr/>
        </p:nvPicPr>
        <p:blipFill>
          <a:blip r:embed="rId5"/>
          <a:stretch/>
        </p:blipFill>
        <p:spPr>
          <a:xfrm>
            <a:off x="826920" y="620640"/>
            <a:ext cx="3513240" cy="109404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51207"/>
          <p:cNvSpPr/>
          <p:nvPr/>
        </p:nvSpPr>
        <p:spPr>
          <a:xfrm flipV="1">
            <a:off x="1258920" y="8506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我  会  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文本框 51208"/>
          <p:cNvSpPr/>
          <p:nvPr/>
        </p:nvSpPr>
        <p:spPr>
          <a:xfrm>
            <a:off x="990720" y="1828800"/>
            <a:ext cx="61722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天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变暖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奶奶的病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好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长高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周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安静下来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文本框 51209"/>
          <p:cNvSpPr/>
          <p:nvPr/>
        </p:nvSpPr>
        <p:spPr>
          <a:xfrm>
            <a:off x="2484360" y="522936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52225"/>
          <p:cNvSpPr/>
          <p:nvPr/>
        </p:nvSpPr>
        <p:spPr>
          <a:xfrm>
            <a:off x="1066680" y="189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会背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3" name="图片 52226" descr="DJ54WZB518YQ%5`WUD~B(2C"/>
          <p:cNvPicPr/>
          <p:nvPr/>
        </p:nvPicPr>
        <p:blipFill>
          <a:blip r:embed="rId1"/>
          <a:stretch/>
        </p:blipFill>
        <p:spPr>
          <a:xfrm>
            <a:off x="0" y="907920"/>
            <a:ext cx="3492360" cy="20163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52227" descr="K~JG%@}DWOLVMD{WPW01E17"/>
          <p:cNvPicPr/>
          <p:nvPr/>
        </p:nvPicPr>
        <p:blipFill>
          <a:blip r:embed="rId2"/>
          <a:stretch/>
        </p:blipFill>
        <p:spPr>
          <a:xfrm>
            <a:off x="3492360" y="115920"/>
            <a:ext cx="3132360" cy="280836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52228" descr="}JQQLLADPU75LSG{54FCR8W"/>
          <p:cNvPicPr/>
          <p:nvPr/>
        </p:nvPicPr>
        <p:blipFill>
          <a:blip r:embed="rId3"/>
          <a:stretch/>
        </p:blipFill>
        <p:spPr>
          <a:xfrm>
            <a:off x="0" y="378936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2229" descr="W`LIIZ0K$WDZUH})KGW_90B"/>
          <p:cNvPicPr/>
          <p:nvPr/>
        </p:nvPicPr>
        <p:blipFill>
          <a:blip r:embed="rId4"/>
          <a:stretch/>
        </p:blipFill>
        <p:spPr>
          <a:xfrm>
            <a:off x="3132000" y="3789360"/>
            <a:ext cx="3097440" cy="22320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2230" descr="E6KB03[H3AMBYNJ5_Z}K%7V"/>
          <p:cNvPicPr/>
          <p:nvPr/>
        </p:nvPicPr>
        <p:blipFill>
          <a:blip r:embed="rId5"/>
          <a:stretch/>
        </p:blipFill>
        <p:spPr>
          <a:xfrm>
            <a:off x="6156360" y="3789360"/>
            <a:ext cx="2987640" cy="218772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52231" descr="E~1P@4XX)@[)FGQS6Z(URAX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263700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52232"/>
          <p:cNvSpPr/>
          <p:nvPr/>
        </p:nvSpPr>
        <p:spPr>
          <a:xfrm>
            <a:off x="562680" y="2824200"/>
            <a:ext cx="22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一只乌鸦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了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到处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。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文本框 52233"/>
          <p:cNvSpPr/>
          <p:nvPr/>
        </p:nvSpPr>
        <p:spPr>
          <a:xfrm>
            <a:off x="3132000" y="602136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乌鸦把小石子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地放进瓶子里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文本框 52234"/>
          <p:cNvSpPr/>
          <p:nvPr/>
        </p:nvSpPr>
        <p:spPr>
          <a:xfrm>
            <a:off x="392760" y="5877000"/>
            <a:ext cx="24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乌鸦看见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__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，想出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来了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文本框 52235"/>
          <p:cNvSpPr/>
          <p:nvPr/>
        </p:nvSpPr>
        <p:spPr>
          <a:xfrm>
            <a:off x="6156360" y="249228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可是，瓶子里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，瓶口又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,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乌鸦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。怎么办呢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?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文本框 52236"/>
          <p:cNvSpPr/>
          <p:nvPr/>
        </p:nvSpPr>
        <p:spPr>
          <a:xfrm>
            <a:off x="3572280" y="2897280"/>
            <a:ext cx="26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乌鸦看见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______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瓶子里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。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52237"/>
          <p:cNvSpPr/>
          <p:nvPr/>
        </p:nvSpPr>
        <p:spPr>
          <a:xfrm>
            <a:off x="6711840" y="6021360"/>
            <a:ext cx="21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瓶子里的水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,</a:t>
            </a:r>
            <a:r>
              <a:rPr b="0" i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乌鸦就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1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云形标注 53250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文本框 53251"/>
          <p:cNvSpPr/>
          <p:nvPr/>
        </p:nvSpPr>
        <p:spPr>
          <a:xfrm>
            <a:off x="995040" y="189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会背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文本框 53252"/>
          <p:cNvSpPr/>
          <p:nvPr/>
        </p:nvSpPr>
        <p:spPr>
          <a:xfrm>
            <a:off x="250920" y="1268280"/>
            <a:ext cx="8496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一只乌鸦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了，到处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。乌鸦看见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，瓶子里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。可是，瓶子里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，瓶口又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,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乌鸦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。怎么办呢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乌鸦看见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，想出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来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乌鸦把小石子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地放进瓶子里。瓶子里的水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___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,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乌鸦就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______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9" name="图片 53253" descr="乌鸦"/>
          <p:cNvPicPr/>
          <p:nvPr/>
        </p:nvPicPr>
        <p:blipFill>
          <a:blip r:embed="rId2"/>
          <a:stretch/>
        </p:blipFill>
        <p:spPr>
          <a:xfrm rot="20135400">
            <a:off x="6713640" y="-387000"/>
            <a:ext cx="243036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3075" descr="W020070709672604204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3076"/>
          <p:cNvSpPr/>
          <p:nvPr/>
        </p:nvSpPr>
        <p:spPr>
          <a:xfrm>
            <a:off x="1836720" y="7768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乌鸦喝水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31120"/>
          </a:xfrm>
          <a:prstGeom prst="rect">
            <a:avLst/>
          </a:prstGeom>
          <a:ln w="0">
            <a:noFill/>
          </a:ln>
        </p:spPr>
      </p:pic>
      <p:sp>
        <p:nvSpPr>
          <p:cNvPr id="621" name="云形标注 54274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文本框 54275"/>
          <p:cNvSpPr/>
          <p:nvPr/>
        </p:nvSpPr>
        <p:spPr>
          <a:xfrm>
            <a:off x="995040" y="189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会背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3" name="图片 54276" descr="DJ54WZB518YQ%5`WUD~B(2C"/>
          <p:cNvPicPr/>
          <p:nvPr/>
        </p:nvPicPr>
        <p:blipFill>
          <a:blip r:embed="rId2"/>
          <a:stretch/>
        </p:blipFill>
        <p:spPr>
          <a:xfrm>
            <a:off x="0" y="907920"/>
            <a:ext cx="3492360" cy="266544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54277" descr="K~JG%@}DWOLVMD{WPW01E17"/>
          <p:cNvPicPr/>
          <p:nvPr/>
        </p:nvPicPr>
        <p:blipFill>
          <a:blip r:embed="rId3"/>
          <a:stretch/>
        </p:blipFill>
        <p:spPr>
          <a:xfrm>
            <a:off x="3492360" y="0"/>
            <a:ext cx="3132360" cy="357336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54278" descr="}JQQLLADPU75LSG{54FCR8W"/>
          <p:cNvPicPr/>
          <p:nvPr/>
        </p:nvPicPr>
        <p:blipFill>
          <a:blip r:embed="rId4"/>
          <a:stretch/>
        </p:blipFill>
        <p:spPr>
          <a:xfrm>
            <a:off x="0" y="3257640"/>
            <a:ext cx="3097080" cy="36003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54279" descr="W`LIIZ0K$WDZUH})KGW_90B"/>
          <p:cNvPicPr/>
          <p:nvPr/>
        </p:nvPicPr>
        <p:blipFill>
          <a:blip r:embed="rId5"/>
          <a:stretch/>
        </p:blipFill>
        <p:spPr>
          <a:xfrm>
            <a:off x="3132000" y="3257640"/>
            <a:ext cx="3097440" cy="360036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54280" descr="E6KB03[H3AMBYNJ5_Z}K%7V"/>
          <p:cNvPicPr/>
          <p:nvPr/>
        </p:nvPicPr>
        <p:blipFill>
          <a:blip r:embed="rId6"/>
          <a:stretch/>
        </p:blipFill>
        <p:spPr>
          <a:xfrm>
            <a:off x="6156360" y="3257640"/>
            <a:ext cx="2987640" cy="360036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54281" descr="E~1P@4XX)@[)FGQS6Z(URAX"/>
          <p:cNvPicPr/>
          <p:nvPr/>
        </p:nvPicPr>
        <p:blipFill>
          <a:blip r:embed="rId7"/>
          <a:stretch/>
        </p:blipFill>
        <p:spPr>
          <a:xfrm>
            <a:off x="6012000" y="0"/>
            <a:ext cx="31320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56720" y="609120"/>
            <a:ext cx="792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  <a:ea typeface="黑体"/>
              </a:rPr>
              <a:t>    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你们喜欢这只小乌鸦吗？那就用一句话来夸夸它吧。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216360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乌鸦在困难面前积极的开动脑筋，想办法解决困难。它是一只爱动脑的乌鸦。咱们小朋友要像乌鸦学习，遇到困难要多动脑，自己想办法解决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5361" descr="b13-jjjjifsa%20(114)"/>
          <p:cNvPicPr/>
          <p:nvPr/>
        </p:nvPicPr>
        <p:blipFill>
          <a:blip r:embed="rId1"/>
          <a:stretch/>
        </p:blipFill>
        <p:spPr>
          <a:xfrm>
            <a:off x="0" y="2637000"/>
            <a:ext cx="5210280" cy="390816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15362"/>
          <p:cNvSpPr/>
          <p:nvPr/>
        </p:nvSpPr>
        <p:spPr>
          <a:xfrm>
            <a:off x="5651640" y="1125360"/>
            <a:ext cx="280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瓶子旁边要是没有小石子，乌鸦该怎么办呢？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云形标注 15363"/>
          <p:cNvSpPr/>
          <p:nvPr/>
        </p:nvSpPr>
        <p:spPr>
          <a:xfrm>
            <a:off x="1547640" y="260280"/>
            <a:ext cx="4896000" cy="2089080"/>
          </a:xfrm>
          <a:prstGeom prst="cloudCallout">
            <a:avLst>
              <a:gd name="adj1" fmla="val -12583"/>
              <a:gd name="adj2" fmla="val 10159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怎么办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16387" descr=""/>
          <p:cNvPicPr/>
          <p:nvPr/>
        </p:nvPicPr>
        <p:blipFill>
          <a:blip r:embed="rId1"/>
          <a:stretch/>
        </p:blipFill>
        <p:spPr>
          <a:xfrm>
            <a:off x="34920" y="46080"/>
            <a:ext cx="910908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图片 174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18435" descr=""/>
          <p:cNvPicPr/>
          <p:nvPr/>
        </p:nvPicPr>
        <p:blipFill>
          <a:blip r:embed="rId1"/>
          <a:stretch/>
        </p:blipFill>
        <p:spPr>
          <a:xfrm>
            <a:off x="3240" y="0"/>
            <a:ext cx="91422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40961"/>
          <p:cNvSpPr/>
          <p:nvPr/>
        </p:nvSpPr>
        <p:spPr>
          <a:xfrm>
            <a:off x="304920" y="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我 会 选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文本框 40962"/>
          <p:cNvSpPr/>
          <p:nvPr/>
        </p:nvSpPr>
        <p:spPr>
          <a:xfrm>
            <a:off x="3049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喝    渴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文本框 40963"/>
          <p:cNvSpPr/>
          <p:nvPr/>
        </p:nvSpPr>
        <p:spPr>
          <a:xfrm>
            <a:off x="304920" y="2286000"/>
            <a:ext cx="815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为    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个（       ）法真好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他（       ）班级做了很多好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文本框 40964"/>
          <p:cNvSpPr/>
          <p:nvPr/>
        </p:nvSpPr>
        <p:spPr>
          <a:xfrm>
            <a:off x="304920" y="1447920"/>
            <a:ext cx="9219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小弟弟口（     ）了，要（    ）水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文本框 40965"/>
          <p:cNvSpPr/>
          <p:nvPr/>
        </p:nvSpPr>
        <p:spPr>
          <a:xfrm>
            <a:off x="380880" y="472428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3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  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乌    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这种（       ）的名字叫（       ）鸦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文本框 40966"/>
          <p:cNvSpPr/>
          <p:nvPr/>
        </p:nvSpPr>
        <p:spPr>
          <a:xfrm>
            <a:off x="2916360" y="1413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文本框 40967"/>
          <p:cNvSpPr/>
          <p:nvPr/>
        </p:nvSpPr>
        <p:spPr>
          <a:xfrm>
            <a:off x="60199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文本框 40968"/>
          <p:cNvSpPr/>
          <p:nvPr/>
        </p:nvSpPr>
        <p:spPr>
          <a:xfrm>
            <a:off x="182880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办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文本框 40969"/>
          <p:cNvSpPr/>
          <p:nvPr/>
        </p:nvSpPr>
        <p:spPr>
          <a:xfrm>
            <a:off x="137160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文本框 40970"/>
          <p:cNvSpPr/>
          <p:nvPr/>
        </p:nvSpPr>
        <p:spPr>
          <a:xfrm>
            <a:off x="1905120" y="5486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文本框 40971"/>
          <p:cNvSpPr/>
          <p:nvPr/>
        </p:nvSpPr>
        <p:spPr>
          <a:xfrm>
            <a:off x="541008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43009"/>
          <p:cNvSpPr/>
          <p:nvPr/>
        </p:nvSpPr>
        <p:spPr>
          <a:xfrm>
            <a:off x="533520" y="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可 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可以 可是 可爱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石 </a:t>
            </a:r>
            <a:r>
              <a:rPr b="0" i="1" lang="zh-CN" sz="7200" spc="-1" strike="noStrike" u="sng">
                <a:solidFill>
                  <a:srgbClr val="d9d8ec"/>
                </a:solidFill>
                <a:uFillTx/>
                <a:latin typeface="幼圆"/>
                <a:ea typeface="幼圆"/>
              </a:rPr>
              <a:t>石头 石子 石井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办 </a:t>
            </a:r>
            <a:r>
              <a:rPr b="0" i="1" lang="zh-CN" sz="7200" spc="-1" strike="noStrike" u="sng">
                <a:solidFill>
                  <a:srgbClr val="cc3399"/>
                </a:solidFill>
                <a:uFillTx/>
                <a:latin typeface="幼圆"/>
                <a:ea typeface="幼圆"/>
              </a:rPr>
              <a:t>办法 办公 办理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法 </a:t>
            </a:r>
            <a:r>
              <a:rPr b="0" i="1" lang="zh-CN" sz="7200" spc="-1" strike="noStrike" u="sng">
                <a:solidFill>
                  <a:srgbClr val="d9d8ec"/>
                </a:solidFill>
                <a:uFillTx/>
                <a:latin typeface="幼圆"/>
                <a:ea typeface="幼圆"/>
              </a:rPr>
              <a:t>办法 书法 方法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找 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找人 找回 找到</a:t>
            </a: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许 </a:t>
            </a:r>
            <a:r>
              <a:rPr b="0" i="1" lang="zh-CN" sz="7200" spc="-1" strike="noStrike" u="sng">
                <a:solidFill>
                  <a:srgbClr val="cc3399"/>
                </a:solidFill>
                <a:uFillTx/>
                <a:latin typeface="幼圆"/>
                <a:ea typeface="幼圆"/>
              </a:rPr>
              <a:t>许多 也许 不许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44033"/>
          <p:cNvSpPr txBox="1"/>
          <p:nvPr/>
        </p:nvSpPr>
        <p:spPr>
          <a:xfrm>
            <a:off x="755640" y="33336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黑体"/>
              </a:rPr>
              <a:t>我会读：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17" name="文本框 44034"/>
          <p:cNvSpPr/>
          <p:nvPr/>
        </p:nvSpPr>
        <p:spPr>
          <a:xfrm>
            <a:off x="863640" y="1268280"/>
            <a:ext cx="82803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 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wū yā  pínɡ zi  bàn fǎ  k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ě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sh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ì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乌  鸦     瓶    子     办   法     可  是</a:t>
            </a:r>
            <a:r>
              <a:rPr b="0" i="1" lang="zh-CN" sz="3600" spc="-1" strike="noStrike" u="sng">
                <a:solidFill>
                  <a:srgbClr val="0066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 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xi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ǎ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n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le 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xi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ǎ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n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   d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à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o chù  zh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ǎ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o shu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想     了    想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SimSun-ExtB"/>
                <a:ea typeface="SimSun-ExtB"/>
              </a:rPr>
              <a:t>到 处  找  水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 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h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ě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n 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ɡā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o h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ē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b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ù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 zh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o z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ě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n mo b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à</a:t>
            </a: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SimSun-ExtB"/>
                <a:ea typeface="SimSun-ExtB"/>
              </a:rPr>
              <a:t>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很    高    喝  不   着       怎   么  办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23553"/>
          <p:cNvSpPr/>
          <p:nvPr/>
        </p:nvSpPr>
        <p:spPr>
          <a:xfrm>
            <a:off x="2133720" y="22860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乌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文本框 23554"/>
          <p:cNvSpPr/>
          <p:nvPr/>
        </p:nvSpPr>
        <p:spPr>
          <a:xfrm>
            <a:off x="220968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0033cc"/>
                </a:solidFill>
                <a:uFillTx/>
                <a:latin typeface="Times New Roman"/>
                <a:ea typeface="楷体_GB2312"/>
              </a:rPr>
              <a:t>渐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文本框 23555"/>
          <p:cNvSpPr/>
          <p:nvPr/>
        </p:nvSpPr>
        <p:spPr>
          <a:xfrm>
            <a:off x="213372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法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文本框 23556"/>
          <p:cNvSpPr/>
          <p:nvPr/>
        </p:nvSpPr>
        <p:spPr>
          <a:xfrm>
            <a:off x="220968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办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文本框 23557"/>
          <p:cNvSpPr/>
          <p:nvPr/>
        </p:nvSpPr>
        <p:spPr>
          <a:xfrm>
            <a:off x="213372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石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文本框 23558"/>
          <p:cNvSpPr/>
          <p:nvPr/>
        </p:nvSpPr>
        <p:spPr>
          <a:xfrm>
            <a:off x="220968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瓶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文本框 23559"/>
          <p:cNvSpPr/>
          <p:nvPr/>
        </p:nvSpPr>
        <p:spPr>
          <a:xfrm>
            <a:off x="213372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渴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23560"/>
          <p:cNvSpPr/>
          <p:nvPr/>
        </p:nvSpPr>
        <p:spPr>
          <a:xfrm>
            <a:off x="2133720" y="7632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喝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23561"/>
          <p:cNvSpPr/>
          <p:nvPr/>
        </p:nvSpPr>
        <p:spPr>
          <a:xfrm>
            <a:off x="2133720" y="152280"/>
            <a:ext cx="54864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鸦</a:t>
            </a:r>
            <a:endParaRPr b="0" i="1" lang="en-US" sz="4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23562"/>
          <p:cNvSpPr/>
          <p:nvPr/>
        </p:nvSpPr>
        <p:spPr>
          <a:xfrm>
            <a:off x="900000" y="1773360"/>
            <a:ext cx="824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800" spc="-1" strike="noStrike" u="sng">
                <a:solidFill>
                  <a:srgbClr val="ff3300"/>
                </a:solidFill>
                <a:uFillTx/>
                <a:latin typeface="Arial"/>
                <a:ea typeface="楷体"/>
              </a:rPr>
              <a:t>真棒！</a:t>
            </a:r>
            <a:endParaRPr b="0" i="1" lang="en-US" sz="20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45057"/>
          <p:cNvSpPr txBox="1"/>
          <p:nvPr/>
        </p:nvSpPr>
        <p:spPr>
          <a:xfrm>
            <a:off x="755640" y="33336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黑体"/>
              </a:rPr>
              <a:t>我会读：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9" name="文本框 45058"/>
          <p:cNvSpPr/>
          <p:nvPr/>
        </p:nvSpPr>
        <p:spPr>
          <a:xfrm>
            <a:off x="863640" y="1268280"/>
            <a:ext cx="828036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6600"/>
                </a:solidFill>
                <a:uFillTx/>
                <a:latin typeface="Times New Roman"/>
                <a:ea typeface="宋体"/>
              </a:rPr>
              <a:t>乌 鸦     瓶 子    很 高   到 处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6600"/>
                </a:solidFill>
                <a:uFillTx/>
                <a:latin typeface="Times New Roman"/>
                <a:ea typeface="宋体"/>
              </a:rPr>
              <a:t>找 水    可 是     办 法   石 子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6600"/>
                </a:solidFill>
                <a:uFillTx/>
                <a:latin typeface="Times New Roman"/>
                <a:ea typeface="宋体"/>
              </a:rPr>
              <a:t>喝 不 着    想 了 想     怎 么 办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动作按钮: 后退或前一项 45059">
            <a:hlinkClick r:id="" action="ppaction://hlinkshowjump?jump=firstslide"/>
          </p:cNvPr>
          <p:cNvSpPr/>
          <p:nvPr/>
        </p:nvSpPr>
        <p:spPr>
          <a:xfrm>
            <a:off x="6443640" y="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13279"/>
                </a:moveTo>
                <a:lnTo>
                  <a:pt x="17806" y="6272"/>
                </a:lnTo>
                <a:lnTo>
                  <a:pt x="17806" y="20285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25601"/>
          <p:cNvSpPr txBox="1"/>
          <p:nvPr/>
        </p:nvSpPr>
        <p:spPr>
          <a:xfrm>
            <a:off x="0" y="22860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我的眼睛最亮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532" name="文本框 25602"/>
          <p:cNvSpPr/>
          <p:nvPr/>
        </p:nvSpPr>
        <p:spPr>
          <a:xfrm>
            <a:off x="179280" y="1736640"/>
            <a:ext cx="91440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渴　　喝　　　为　　办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右　　石　　　鸟　　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丢　　法　　　鸦　　鸭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___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找             外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___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处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直接连接符 25603"/>
          <p:cNvSpPr/>
          <p:nvPr/>
        </p:nvSpPr>
        <p:spPr>
          <a:xfrm>
            <a:off x="1332000" y="306864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直接连接符 25604"/>
          <p:cNvSpPr/>
          <p:nvPr/>
        </p:nvSpPr>
        <p:spPr>
          <a:xfrm>
            <a:off x="1332000" y="443700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直接连接符 25605"/>
          <p:cNvSpPr/>
          <p:nvPr/>
        </p:nvSpPr>
        <p:spPr>
          <a:xfrm>
            <a:off x="1332000" y="580536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直接连接符 25606"/>
          <p:cNvSpPr/>
          <p:nvPr/>
        </p:nvSpPr>
        <p:spPr>
          <a:xfrm>
            <a:off x="6659640" y="306864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直接连接符 25607"/>
          <p:cNvSpPr/>
          <p:nvPr/>
        </p:nvSpPr>
        <p:spPr>
          <a:xfrm>
            <a:off x="6732720" y="443700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接连接符 25608"/>
          <p:cNvSpPr/>
          <p:nvPr/>
        </p:nvSpPr>
        <p:spPr>
          <a:xfrm>
            <a:off x="6732720" y="580536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1372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5124"/>
          <p:cNvSpPr/>
          <p:nvPr/>
        </p:nvSpPr>
        <p:spPr>
          <a:xfrm>
            <a:off x="108000" y="718200"/>
            <a:ext cx="87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文本框 5125"/>
          <p:cNvSpPr/>
          <p:nvPr/>
        </p:nvSpPr>
        <p:spPr>
          <a:xfrm>
            <a:off x="181080" y="59220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一只乌鸦口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渴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了，到处找水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喝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文本框 5126"/>
          <p:cNvSpPr/>
          <p:nvPr/>
        </p:nvSpPr>
        <p:spPr>
          <a:xfrm>
            <a:off x="181080" y="458964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思考：乌鸦口渴了，它是怎么找水喝的？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5127"/>
          <p:cNvSpPr/>
          <p:nvPr/>
        </p:nvSpPr>
        <p:spPr>
          <a:xfrm>
            <a:off x="2340000" y="5364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直接连接符 5128"/>
          <p:cNvSpPr/>
          <p:nvPr/>
        </p:nvSpPr>
        <p:spPr>
          <a:xfrm>
            <a:off x="5003640" y="14860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6145"/>
          <p:cNvSpPr/>
          <p:nvPr/>
        </p:nvSpPr>
        <p:spPr>
          <a:xfrm>
            <a:off x="396720" y="1110960"/>
            <a:ext cx="828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乌鸦看见一个瓶子，瓶子里有水。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文本框 6146"/>
          <p:cNvSpPr/>
          <p:nvPr/>
        </p:nvSpPr>
        <p:spPr>
          <a:xfrm>
            <a:off x="328680" y="3457080"/>
            <a:ext cx="842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思考：乌鸦到处找水，找到水了吗？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6147"/>
          <p:cNvSpPr/>
          <p:nvPr/>
        </p:nvSpPr>
        <p:spPr>
          <a:xfrm>
            <a:off x="324000" y="463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喝着水了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直接连接符 6148"/>
          <p:cNvSpPr/>
          <p:nvPr/>
        </p:nvSpPr>
        <p:spPr>
          <a:xfrm>
            <a:off x="3203640" y="1628640"/>
            <a:ext cx="468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直接连接符 6149"/>
          <p:cNvSpPr/>
          <p:nvPr/>
        </p:nvSpPr>
        <p:spPr>
          <a:xfrm>
            <a:off x="395280" y="2565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7169"/>
          <p:cNvSpPr/>
          <p:nvPr/>
        </p:nvSpPr>
        <p:spPr>
          <a:xfrm>
            <a:off x="34920" y="33336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可是 ，水不多，瓶口又小，乌鸦喝不着水，怎么办呢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椭圆形标注 7170"/>
          <p:cNvSpPr/>
          <p:nvPr/>
        </p:nvSpPr>
        <p:spPr>
          <a:xfrm rot="5895000">
            <a:off x="5614920" y="2889000"/>
            <a:ext cx="3313080" cy="3240000"/>
          </a:xfrm>
          <a:prstGeom prst="wedgeEllipseCallout">
            <a:avLst>
              <a:gd name="adj1" fmla="val -60967"/>
              <a:gd name="adj2" fmla="val 745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怎么办呢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文本框 7171"/>
          <p:cNvSpPr/>
          <p:nvPr/>
        </p:nvSpPr>
        <p:spPr>
          <a:xfrm>
            <a:off x="38160" y="36054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思考：</a:t>
            </a: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1.</a:t>
            </a: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乌鸦为什么没有喝着水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文本框 7172"/>
          <p:cNvSpPr/>
          <p:nvPr/>
        </p:nvSpPr>
        <p:spPr>
          <a:xfrm>
            <a:off x="324000" y="5523120"/>
            <a:ext cx="46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2.</a:t>
            </a:r>
            <a:r>
              <a:rPr b="0" i="1" lang="zh-CN" sz="36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乌鸦喝不着水，它心里会怎么想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直接连接符 7173"/>
          <p:cNvSpPr/>
          <p:nvPr/>
        </p:nvSpPr>
        <p:spPr>
          <a:xfrm>
            <a:off x="3492360" y="119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直接连接符 7174"/>
          <p:cNvSpPr/>
          <p:nvPr/>
        </p:nvSpPr>
        <p:spPr>
          <a:xfrm>
            <a:off x="108000" y="198900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7175"/>
          <p:cNvSpPr/>
          <p:nvPr/>
        </p:nvSpPr>
        <p:spPr>
          <a:xfrm>
            <a:off x="5149800" y="5973840"/>
            <a:ext cx="1822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7176"/>
          <p:cNvSpPr/>
          <p:nvPr/>
        </p:nvSpPr>
        <p:spPr>
          <a:xfrm>
            <a:off x="3708360" y="60602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答案：着急，想办法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0:37:23Z</dcterms:created>
  <dc:creator>王明一</dc:creator>
  <dc:description/>
  <dc:language>en-US</dc:language>
  <cp:lastModifiedBy>万润仪器贸易公司</cp:lastModifiedBy>
  <dcterms:modified xsi:type="dcterms:W3CDTF">2020-08-24T01:55:14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